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6d7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8AE8-68A2-4B10-AAA3-8876560141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5162-2700-48E0-AE26-DB7AB3D572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A85F-069B-465B-9F29-69720412C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FC09-6BB5-4EB1-BEE7-80F9669CE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5B0F-B782-43A3-BADA-B8559EB24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1075-4C97-4057-A00D-BF3F5B4D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48F5-93ED-41D0-978D-B62817C9E0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4A09-681B-4DF5-ABAC-627F8D05FE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92E-CD2B-4240-8B0C-48B0CAECAB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732B-FE37-41A6-9212-A557A615DD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CE2E-43D6-43EC-B088-0316C1E9E9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A984-66A8-47FB-A4E8-65F60E7CE7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45B-52F5-480C-BDC3-C6FB20B816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58FD-8295-4FEF-8BCE-61598276BD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6A52-B3B8-4C8E-A509-A926EB3691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62D5-0CFB-42FB-9A32-2D8BE1BFEE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E51A-BCEC-4538-AEBA-79C2181C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CD60-9F60-4F5B-9503-873F0C963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CEAA-8DCD-490A-A47F-CDAD3D396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80232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FCDB-274D-4C23-B589-DA955762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F1F8-7C44-4048-B48B-97942FA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6544-7A74-4719-B97E-97ED1EC2D0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EFFC5-4FD9-4CB4-8813-9B90AA019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5519A-69E4-4E22-9A7A-4B9AF9C0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432D4-4C15-4617-82C4-22355A8B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F99EA-2197-4B90-BD43-CEC40957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48162-0923-4554-847B-93BC2693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358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BE809-3836-41E7-8C25-2B6691BD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88F74-FF68-4611-A7E2-58DFC47F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DA4C-31FD-4C3D-8580-0CDF9B3F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FE9D4-BD31-4372-A155-F3691D12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7D3DA-BE36-43FC-A8B8-1ABB22AA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80232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E74F7-EF29-42EB-A0EB-A2CCA60C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5ED35-B119-455E-90EF-79AC4280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7A359-B421-4419-9C7B-2BBFE717CD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1318-F189-4017-AA07-8CA39A4737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B869-A322-47C7-899E-670A01BA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630D-8E10-48C2-8FD1-9C506D0B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993B-8790-40FF-AE4E-9FD464ED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59F5-0990-4FF5-B726-23F52F3E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2529-D9A9-4E1C-8EAF-E4634494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358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02B6-9FAD-40E3-977B-96019B28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5706-5BBE-41A2-A63D-5BA3DD50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4480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97E4-6D44-4733-A2AD-14045108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D27-A743-438B-BBCF-7BCDDEF4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80232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4BE5-22F3-4056-976A-DF9A0B95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4480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5F02-6679-41E3-833B-1243450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9012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776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B88B-F50A-4067-A484-A0597A9C2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1E71F-3AFD-478F-BFB9-C26D832CF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622C1-CDF6-4A4B-B0F1-82A487B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382D4-C182-4C50-9C14-638BA7A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2038-EF73-452E-9BC5-B29016EA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AF1B5-CE8C-474C-9818-CB2F43F3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DCA74-4A30-4DEC-A714-EAFA82A4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62120" y="358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6D850-71B1-4A18-A8A4-BA20EE11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595D2-55C3-4429-9C9E-23825E5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4480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0F695-59D0-4FEE-A8D9-E7B5CB48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413C6-3483-417D-B2E3-3CE26B04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62120" y="380232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6AA1D-4070-4E21-90CB-D5C9A139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4480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FF98C-1298-4FB6-ACCA-FCF0764E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6212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9012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17760" y="3802320"/>
            <a:ext cx="25023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4DD69-7F62-4097-BA6F-6C3FB6E898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C2CE-2372-472C-829C-8B4C3998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58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7CA1-660D-4E39-BF8A-89C829DC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4BF1-64DC-4D2F-A435-E64E0026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80232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B987-D849-4450-966E-3B9ABEC1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802320"/>
            <a:ext cx="7772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5598-1F41-47FE-9AA0-636CCA10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6102360"/>
            <a:ext cx="914400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3"/>
          <p:cNvSpPr/>
          <p:nvPr/>
        </p:nvSpPr>
        <p:spPr>
          <a:xfrm>
            <a:off x="0" y="5815080"/>
            <a:ext cx="9144000" cy="287280"/>
          </a:xfrm>
          <a:prstGeom prst="rect">
            <a:avLst/>
          </a:prstGeom>
          <a:solidFill>
            <a:srgbClr val="00a6d7"/>
          </a:solidFill>
          <a:ln w="9360">
            <a:solidFill>
              <a:srgbClr val="00a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6d7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A3C1-215B-4CDF-AC9C-B8DB9CD81AB6}" type="datetime3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76760" y="5837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A5B4-081D-48E7-9F28-FEC1E4B2B7B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1" descr=""/>
          <p:cNvPicPr/>
          <p:nvPr/>
        </p:nvPicPr>
        <p:blipFill>
          <a:blip r:embed="rId2"/>
          <a:stretch/>
        </p:blipFill>
        <p:spPr>
          <a:xfrm>
            <a:off x="6851520" y="6162840"/>
            <a:ext cx="1633680" cy="69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0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2"/>
          <p:cNvSpPr/>
          <p:nvPr/>
        </p:nvSpPr>
        <p:spPr>
          <a:xfrm>
            <a:off x="0" y="5599080"/>
            <a:ext cx="9144000" cy="287280"/>
          </a:xfrm>
          <a:prstGeom prst="rect">
            <a:avLst/>
          </a:prstGeom>
          <a:solidFill>
            <a:srgbClr val="00a6d7"/>
          </a:solidFill>
          <a:ln w="9360">
            <a:solidFill>
              <a:srgbClr val="00a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77" descr=""/>
          <p:cNvPicPr/>
          <p:nvPr/>
        </p:nvPicPr>
        <p:blipFill>
          <a:blip r:embed="rId2"/>
          <a:stretch/>
        </p:blipFill>
        <p:spPr>
          <a:xfrm>
            <a:off x="6610320" y="5931000"/>
            <a:ext cx="1900440" cy="89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6d7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752400" y="519444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0D94-8484-45EA-BCEE-747EE9BBA267}" type="datetime3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476760" y="5621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5BA6-F725-414C-B409-50177190ABA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2"/>
          <p:cNvSpPr/>
          <p:nvPr/>
        </p:nvSpPr>
        <p:spPr>
          <a:xfrm>
            <a:off x="0" y="6102360"/>
            <a:ext cx="914400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0" y="5815080"/>
            <a:ext cx="9144000" cy="287280"/>
          </a:xfrm>
          <a:prstGeom prst="rect">
            <a:avLst/>
          </a:prstGeom>
          <a:solidFill>
            <a:srgbClr val="00a6d7"/>
          </a:solidFill>
          <a:ln w="9360">
            <a:solidFill>
              <a:srgbClr val="00a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41" descr=""/>
          <p:cNvPicPr/>
          <p:nvPr/>
        </p:nvPicPr>
        <p:blipFill>
          <a:blip r:embed="rId2"/>
          <a:stretch/>
        </p:blipFill>
        <p:spPr>
          <a:xfrm>
            <a:off x="6851520" y="6162840"/>
            <a:ext cx="1633680" cy="69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6d7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E6AD-0B10-406A-8E80-66F43BAE5FB3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476760" y="5837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BFE6-C32D-474D-B327-B77EB462A8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2"/>
          <p:cNvSpPr/>
          <p:nvPr/>
        </p:nvSpPr>
        <p:spPr>
          <a:xfrm>
            <a:off x="0" y="6102360"/>
            <a:ext cx="914400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0" y="5815080"/>
            <a:ext cx="9144000" cy="287280"/>
          </a:xfrm>
          <a:prstGeom prst="rect">
            <a:avLst/>
          </a:prstGeom>
          <a:solidFill>
            <a:srgbClr val="00a6d7"/>
          </a:solidFill>
          <a:ln w="9360">
            <a:solidFill>
              <a:srgbClr val="00a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1" descr=""/>
          <p:cNvPicPr/>
          <p:nvPr/>
        </p:nvPicPr>
        <p:blipFill>
          <a:blip r:embed="rId2"/>
          <a:stretch/>
        </p:blipFill>
        <p:spPr>
          <a:xfrm>
            <a:off x="6851520" y="6162840"/>
            <a:ext cx="1633680" cy="695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6d7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E7E4-22F9-4716-8CAA-52937D869787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6476760" y="5837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21FA-9A29-4353-BF26-02BF9C24D7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7"/>
          <p:cNvSpPr/>
          <p:nvPr/>
        </p:nvSpPr>
        <p:spPr>
          <a:xfrm>
            <a:off x="752400" y="5194440"/>
            <a:ext cx="792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7B9F-F55C-46D1-91E8-DD820EEB2D64}" type="datetime3">
              <a:rPr b="1" lang="en-GB" sz="1200" spc="-1" strike="noStrike">
                <a:solidFill>
                  <a:srgbClr val="000000"/>
                </a:solidFill>
                <a:latin typeface="Tahoma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63"/>
          <p:cNvSpPr/>
          <p:nvPr/>
        </p:nvSpPr>
        <p:spPr>
          <a:xfrm>
            <a:off x="6477120" y="5621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6477-2A08-4720-953C-58C7E5427E9A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a6d7"/>
                </a:solidFill>
                <a:latin typeface="Tahoma"/>
              </a:rPr>
              <a:t>Team one presents:</a:t>
            </a:r>
            <a:endParaRPr b="1" lang="en-US" sz="24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60320" y="6353280"/>
            <a:ext cx="4686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Intelligent Users Experience Engineer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Tekstvak 5"/>
          <p:cNvGrpSpPr/>
          <p:nvPr/>
        </p:nvGrpSpPr>
        <p:grpSpPr>
          <a:xfrm>
            <a:off x="0" y="1847880"/>
            <a:ext cx="6540480" cy="1919160"/>
            <a:chOff x="0" y="1847880"/>
            <a:chExt cx="6540480" cy="1919160"/>
          </a:xfrm>
        </p:grpSpPr>
        <p:pic>
          <p:nvPicPr>
            <p:cNvPr id="184" name="Tekstvak 5" descr=""/>
            <p:cNvPicPr/>
            <p:nvPr/>
          </p:nvPicPr>
          <p:blipFill>
            <a:blip r:embed="rId1"/>
            <a:stretch/>
          </p:blipFill>
          <p:spPr>
            <a:xfrm>
              <a:off x="0" y="1847880"/>
              <a:ext cx="654048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14200" y="2044800"/>
              <a:ext cx="61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Evaluating the “diet feedback”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400" spc="-1" strike="noStrike">
                  <a:solidFill>
                    <a:srgbClr val="000000"/>
                  </a:solidFill>
                  <a:latin typeface="Tahoma"/>
                </a:rPr>
                <a:t>of dieetinzicht.nl and a prototyp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86" name="Afbeelding 0" descr="slide3.jpg"/>
          <p:cNvPicPr/>
          <p:nvPr/>
        </p:nvPicPr>
        <p:blipFill>
          <a:blip r:embed="rId2"/>
          <a:stretch/>
        </p:blipFill>
        <p:spPr>
          <a:xfrm>
            <a:off x="6566040" y="1844640"/>
            <a:ext cx="2577960" cy="2487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4853-CE8E-49D2-8FEE-C05922D9D57A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4DDA-B722-40C7-A16E-4774F5D31D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Results of the experimen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4746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Final results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Tahoma"/>
              </a:rPr>
              <a:t>with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counterbala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ffective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3" descr=""/>
          <p:cNvPicPr/>
          <p:nvPr/>
        </p:nvPicPr>
        <p:blipFill>
          <a:blip r:embed="rId1"/>
          <a:stretch/>
        </p:blipFill>
        <p:spPr>
          <a:xfrm>
            <a:off x="735120" y="2727360"/>
            <a:ext cx="7672320" cy="1409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FC08-B203-4822-8824-F42D7916749F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7DD3-93E1-4024-B6AC-A43BEEB0F8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Results of the experimen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4746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Final results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Tahoma"/>
              </a:rPr>
              <a:t>with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counterbala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798480" y="2811600"/>
            <a:ext cx="7634160" cy="1726920"/>
          </a:xfrm>
          <a:prstGeom prst="rect">
            <a:avLst/>
          </a:prstGeom>
          <a:ln w="0">
            <a:noFill/>
          </a:ln>
        </p:spPr>
      </p:pic>
      <p:sp>
        <p:nvSpPr>
          <p:cNvPr id="269" name="Oval 7"/>
          <p:cNvSpPr/>
          <p:nvPr/>
        </p:nvSpPr>
        <p:spPr>
          <a:xfrm>
            <a:off x="3780000" y="2852640"/>
            <a:ext cx="1871640" cy="11527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5076720" y="3500280"/>
            <a:ext cx="2159280" cy="144144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9458-29E2-4D90-A398-9DC34D580341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C84D-6E17-4DBF-A579-DAB5B93B90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Results of the experimen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4746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Final results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Tahoma"/>
              </a:rPr>
              <a:t>with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counterbala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atisf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42840" y="2016000"/>
            <a:ext cx="9056880" cy="2832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71A-8720-4647-BF80-2D55986F614D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4154-3EF3-48CE-B2A8-EA686FFB7E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Results of the experimen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4746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Final results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Tahoma"/>
              </a:rPr>
              <a:t>with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counterbala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mple compari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657760" cy="4093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Discussion of the results and Conclusion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8098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resented by Ste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724280" y="1828800"/>
            <a:ext cx="381024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724280" y="3794040"/>
            <a:ext cx="381024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53D6-B718-45E3-8FF1-2BC17988BB09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A86-062D-4AD1-8DF2-6161D236A0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Discussion of the results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8105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Every measurement group shows better results when using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he perceived difficulty per task remarkably shows that the usage of our Prototype is more difficult than the usage of Dieetinzich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User comments and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19C4-E888-4E9C-BCC0-7B29D278F6FE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5502-5366-4E1B-9C81-B614BBC275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071720" y="3714840"/>
          <a:ext cx="5381640" cy="1357200"/>
        </p:xfrm>
        <a:graphic>
          <a:graphicData uri="http://schemas.openxmlformats.org/drawingml/2006/table">
            <a:tbl>
              <a:tblPr/>
              <a:tblGrid>
                <a:gridCol w="892080"/>
                <a:gridCol w="4489560"/>
              </a:tblGrid>
              <a:tr h="3445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ieetinzic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640" marR="44640">
                    <a:lnL w="5760">
                      <a:solidFill>
                        <a:srgbClr val="78c0d4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Feedback/Suggestion/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640" marR="446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445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640" marR="44640">
                    <a:lnL w="5760">
                      <a:solidFill>
                        <a:srgbClr val="78c0d4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“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 Dieetinzicht it’s more clearer where to click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640" marR="446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668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yt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640" marR="44640">
                    <a:lnL w="5760">
                      <a:solidFill>
                        <a:srgbClr val="78c0d4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“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ou have to scroll a lot.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“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’s unclear at which day you’re looking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640" marR="446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Conclusions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5520" y="4143240"/>
            <a:ext cx="7429320" cy="3778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everything went right, gained valuable experience for future evaluatio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For example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test subject were from the EECMS building, so that might cause biased resul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 did statistics with only 6 particpants, usually that is too few to make hard conclu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8375-F160-4772-92B7-EB50D1551E7A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4C5-6449-4DCA-8FEC-69D16BAB79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85880" y="1217520"/>
          <a:ext cx="7391160" cy="2803680"/>
        </p:xfrm>
        <a:graphic>
          <a:graphicData uri="http://schemas.openxmlformats.org/drawingml/2006/table">
            <a:tbl>
              <a:tblPr/>
              <a:tblGrid>
                <a:gridCol w="1508040"/>
                <a:gridCol w="2562120"/>
                <a:gridCol w="3321000"/>
              </a:tblGrid>
              <a:tr h="213480">
                <a:tc gridSpan="2"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Measurement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4ba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Bas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2134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ffective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2746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Number of correc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qual or more than 96% cor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4266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qual or less than 92% of Dieetinzicht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Cli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qual or less than 83% of Dieetinzicht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2134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Satisf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Overall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qual or less usable score of 2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4266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Feedback per 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qual or less task feedback score of 2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5760">
                      <a:solidFill>
                        <a:srgbClr val="78c0d4"/>
                      </a:solidFill>
                    </a:lnL>
                    <a:lnR>
                      <a:noFill/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Mean perceived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>
                      <a:noFill/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qual or less perceive time score of 1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8600" marR="48600">
                    <a:lnL w="9360">
                      <a:solidFill>
                        <a:srgbClr val="78c0d4"/>
                      </a:solidFill>
                    </a:lnL>
                    <a:lnR w="9360">
                      <a:solidFill>
                        <a:srgbClr val="78c0d4"/>
                      </a:solidFill>
                    </a:lnR>
                    <a:lnT w="5760">
                      <a:solidFill>
                        <a:srgbClr val="78c0d4"/>
                      </a:solidFill>
                    </a:lnT>
                    <a:lnB w="5760">
                      <a:solidFill>
                        <a:srgbClr val="78c0d4"/>
                      </a:solidFill>
                    </a:lnB>
                    <a:solidFill>
                      <a:srgbClr val="d2eaf1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Time for discussion!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786280" y="5357520"/>
            <a:ext cx="321480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ahoma"/>
              </a:rPr>
              <a:t>Thank you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for your attention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4964-FC94-488A-826B-EED9838111D3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AE74-AF7B-4DC3-8A33-62611E9EC9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Presentation contents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Introduction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by Tho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Usability testing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y Tho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, by Han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Discussion of resul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, by Ste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, by Ste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Questions and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ijdelijke aanduiding voor datum 3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F5A6-D7D3-4C7B-B0F9-523DD8074F48}" type="datetime3">
              <a:rPr b="0" lang="en-GB" sz="1000" spc="-1" strike="noStrike">
                <a:solidFill>
                  <a:srgbClr val="000000"/>
                </a:solidFill>
                <a:latin typeface="Tahoma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231D-C77D-49D7-B314-39B9BB252089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505-EB0B-4632-820D-C7641FD60912}" type="datetime3">
              <a:rPr b="0" lang="en-GB" sz="1000" spc="-1" strike="noStrike">
                <a:solidFill>
                  <a:srgbClr val="000000"/>
                </a:solidFill>
                <a:latin typeface="Tahoma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820B-8D9C-4B55-9B09-53F8FEF32024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755280" y="54936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user can find what he/she consumed over a certain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user can identify unhealthy ingred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user can find alternatives of certain ingred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user is provided with some sort of health-s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user can tell more about several ingredient details (fat amount, calories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3"/>
          <p:cNvSpPr/>
          <p:nvPr/>
        </p:nvSpPr>
        <p:spPr>
          <a:xfrm>
            <a:off x="880560" y="476280"/>
            <a:ext cx="52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ahoma"/>
              </a:rPr>
              <a:t>Usability testing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da perso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 &amp; Tas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y the most unhealthy ingredient in the past 2 wee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much calories does the most unhealthy ingredient in the past 2 weeks h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an alternative ingredient for the most unhealthy ingredient in the past 2 wee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out what you ate during 3 specific d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the week with the lowest B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the week with the healthiest eating ha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6d7"/>
                </a:solidFill>
                <a:latin typeface="Tahoma"/>
              </a:rPr>
              <a:t>Procedure 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iven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tisf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Afbeelding 3" descr="Afb003.jpg"/>
          <p:cNvPicPr/>
          <p:nvPr/>
        </p:nvPicPr>
        <p:blipFill>
          <a:blip r:embed="rId1"/>
          <a:stretch/>
        </p:blipFill>
        <p:spPr>
          <a:xfrm>
            <a:off x="4552920" y="871560"/>
            <a:ext cx="2133720" cy="3719520"/>
          </a:xfrm>
          <a:prstGeom prst="rect">
            <a:avLst/>
          </a:prstGeom>
          <a:ln w="0">
            <a:noFill/>
          </a:ln>
        </p:spPr>
      </p:pic>
      <p:pic>
        <p:nvPicPr>
          <p:cNvPr id="200" name="Afbeelding 4" descr="Afb004.jpg"/>
          <p:cNvPicPr/>
          <p:nvPr/>
        </p:nvPicPr>
        <p:blipFill>
          <a:blip r:embed="rId2"/>
          <a:stretch/>
        </p:blipFill>
        <p:spPr>
          <a:xfrm>
            <a:off x="5846760" y="3292560"/>
            <a:ext cx="2230560" cy="3913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Results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8098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resented by Han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724280" y="1828440"/>
            <a:ext cx="3810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ijdelijke aanduiding voor datum 4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A7B6-89C8-4C82-98BB-3DD5393E7CCC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C985-9A49-4EFC-9B61-84C51C699E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4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0F8E-9940-44CA-825A-EC4CAC6040AD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E98E-8146-470C-9B48-09535E9535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Results of the experimen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7416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Effectivenes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Number of correctly answered questions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Grafiek 8" descr=""/>
          <p:cNvPicPr/>
          <p:nvPr/>
        </p:nvPicPr>
        <p:blipFill>
          <a:blip r:embed="rId1"/>
          <a:srcRect l="14007" t="22397" r="0" b="5133"/>
          <a:stretch/>
        </p:blipFill>
        <p:spPr>
          <a:xfrm>
            <a:off x="1252440" y="2122560"/>
            <a:ext cx="5832720" cy="36115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436"/>
          <p:cNvSpPr/>
          <p:nvPr/>
        </p:nvSpPr>
        <p:spPr>
          <a:xfrm>
            <a:off x="5508720" y="1773360"/>
            <a:ext cx="345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432"/>
          <p:cNvSpPr/>
          <p:nvPr/>
        </p:nvSpPr>
        <p:spPr>
          <a:xfrm rot="2700000">
            <a:off x="258840" y="19872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rre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433"/>
          <p:cNvSpPr/>
          <p:nvPr/>
        </p:nvSpPr>
        <p:spPr>
          <a:xfrm>
            <a:off x="5457240" y="20797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ieetinz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to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434"/>
          <p:cNvSpPr/>
          <p:nvPr/>
        </p:nvSpPr>
        <p:spPr>
          <a:xfrm>
            <a:off x="8255160" y="2066760"/>
            <a:ext cx="6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435"/>
          <p:cNvSpPr/>
          <p:nvPr/>
        </p:nvSpPr>
        <p:spPr>
          <a:xfrm>
            <a:off x="5515920" y="1736640"/>
            <a:ext cx="34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ahoma"/>
              </a:rPr>
              <a:t>Percentage of all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4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25F-0907-4573-A37E-1D4AF46EEC59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FC50-FEBE-494E-AB2B-AA55F71A47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Results of the experimen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907920"/>
            <a:ext cx="81309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Efficienc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ahoma"/>
              </a:rPr>
              <a:t>Duratio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Tahoma"/>
              </a:rPr>
              <a:t>amount of click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 needed for completing a ta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Grafiek 7" descr=""/>
          <p:cNvPicPr/>
          <p:nvPr/>
        </p:nvPicPr>
        <p:blipFill>
          <a:blip r:embed="rId1"/>
          <a:srcRect l="6272" t="33413" r="1546" b="3900"/>
          <a:stretch/>
        </p:blipFill>
        <p:spPr>
          <a:xfrm>
            <a:off x="468360" y="1700280"/>
            <a:ext cx="4248000" cy="2016000"/>
          </a:xfrm>
          <a:prstGeom prst="rect">
            <a:avLst/>
          </a:prstGeom>
          <a:ln w="0">
            <a:noFill/>
          </a:ln>
        </p:spPr>
      </p:pic>
      <p:pic>
        <p:nvPicPr>
          <p:cNvPr id="221" name="Grafiek 6" descr=""/>
          <p:cNvPicPr/>
          <p:nvPr/>
        </p:nvPicPr>
        <p:blipFill>
          <a:blip r:embed="rId2"/>
          <a:srcRect l="5260" t="29061" r="1746" b="3895"/>
          <a:stretch/>
        </p:blipFill>
        <p:spPr>
          <a:xfrm>
            <a:off x="5076720" y="1700280"/>
            <a:ext cx="3816360" cy="216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3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378000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4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3529080" cy="1808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atum 5"/>
          <p:cNvSpPr/>
          <p:nvPr/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3C0C-7765-4B23-92FB-2148FC88C8B5}" type="datetime3">
              <a:rPr b="0" lang="en-US" sz="10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ijdelijke aanduiding voor dianummer 6"/>
          <p:cNvSpPr/>
          <p:nvPr/>
        </p:nvSpPr>
        <p:spPr>
          <a:xfrm>
            <a:off x="6477120" y="5837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2D59-03A4-4902-BF3F-B7F1D9D36D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814680" y="479736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VERY EASY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VERY DIFFICUL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22"/>
          <p:cNvSpPr/>
          <p:nvPr/>
        </p:nvSpPr>
        <p:spPr>
          <a:xfrm>
            <a:off x="2946240" y="4903920"/>
            <a:ext cx="144720" cy="14436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val 23"/>
          <p:cNvSpPr/>
          <p:nvPr/>
        </p:nvSpPr>
        <p:spPr>
          <a:xfrm>
            <a:off x="2771640" y="4902120"/>
            <a:ext cx="144720" cy="144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a6d7"/>
                </a:solidFill>
                <a:latin typeface="Tahoma"/>
              </a:rPr>
              <a:t>Results of the experiment</a:t>
            </a:r>
            <a:endParaRPr b="1" lang="en-US" sz="3200" spc="-1" strike="noStrike">
              <a:solidFill>
                <a:srgbClr val="00a6d7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4746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User satisfactio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ceived time + Overall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2198520" y="4830840"/>
            <a:ext cx="28764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Oval 16"/>
          <p:cNvSpPr/>
          <p:nvPr/>
        </p:nvSpPr>
        <p:spPr>
          <a:xfrm>
            <a:off x="3025800" y="483084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Oval 17"/>
          <p:cNvSpPr/>
          <p:nvPr/>
        </p:nvSpPr>
        <p:spPr>
          <a:xfrm>
            <a:off x="2611440" y="483084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3438360" y="4830840"/>
            <a:ext cx="28764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852720" y="4830840"/>
            <a:ext cx="28764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762120" y="4757760"/>
            <a:ext cx="5611680" cy="4334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877680" y="4221000"/>
            <a:ext cx="52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FASTER 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              SLOWER THEN EXPEC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26"/>
          <p:cNvSpPr/>
          <p:nvPr/>
        </p:nvSpPr>
        <p:spPr>
          <a:xfrm>
            <a:off x="2689200" y="4332240"/>
            <a:ext cx="144360" cy="14436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27"/>
          <p:cNvSpPr/>
          <p:nvPr/>
        </p:nvSpPr>
        <p:spPr>
          <a:xfrm>
            <a:off x="2535120" y="4334040"/>
            <a:ext cx="144720" cy="1443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28"/>
          <p:cNvSpPr/>
          <p:nvPr/>
        </p:nvSpPr>
        <p:spPr>
          <a:xfrm>
            <a:off x="2209680" y="425916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Oval 29"/>
          <p:cNvSpPr/>
          <p:nvPr/>
        </p:nvSpPr>
        <p:spPr>
          <a:xfrm>
            <a:off x="3036960" y="425916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Oval 30"/>
          <p:cNvSpPr/>
          <p:nvPr/>
        </p:nvSpPr>
        <p:spPr>
          <a:xfrm>
            <a:off x="2622600" y="425916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33"/>
          <p:cNvSpPr/>
          <p:nvPr/>
        </p:nvSpPr>
        <p:spPr>
          <a:xfrm>
            <a:off x="758880" y="4181400"/>
            <a:ext cx="5613480" cy="4334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821160" y="533700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VERY EASY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1600" spc="-1" strike="noStrike">
                <a:solidFill>
                  <a:srgbClr val="000000"/>
                </a:solidFill>
                <a:latin typeface="Tahoma"/>
              </a:rPr>
              <a:t>VERY DIFFICUL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2705040" y="5443560"/>
            <a:ext cx="144360" cy="14436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Oval 47"/>
          <p:cNvSpPr/>
          <p:nvPr/>
        </p:nvSpPr>
        <p:spPr>
          <a:xfrm>
            <a:off x="2835360" y="5442120"/>
            <a:ext cx="144360" cy="1443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 48"/>
          <p:cNvSpPr/>
          <p:nvPr/>
        </p:nvSpPr>
        <p:spPr>
          <a:xfrm>
            <a:off x="2205000" y="537048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49"/>
          <p:cNvSpPr/>
          <p:nvPr/>
        </p:nvSpPr>
        <p:spPr>
          <a:xfrm>
            <a:off x="3032280" y="537048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50"/>
          <p:cNvSpPr/>
          <p:nvPr/>
        </p:nvSpPr>
        <p:spPr>
          <a:xfrm>
            <a:off x="2617920" y="537048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51"/>
          <p:cNvSpPr/>
          <p:nvPr/>
        </p:nvSpPr>
        <p:spPr>
          <a:xfrm>
            <a:off x="3444840" y="537048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52"/>
          <p:cNvSpPr/>
          <p:nvPr/>
        </p:nvSpPr>
        <p:spPr>
          <a:xfrm>
            <a:off x="3859200" y="5370480"/>
            <a:ext cx="287280" cy="287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758880" y="5297400"/>
            <a:ext cx="5621400" cy="4334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5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4770360" cy="259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5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015000" cy="19825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6"/>
          <p:cNvSpPr/>
          <p:nvPr/>
        </p:nvSpPr>
        <p:spPr>
          <a:xfrm>
            <a:off x="7356960" y="177336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Lower is better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57"/>
          <p:cNvSpPr/>
          <p:nvPr/>
        </p:nvSpPr>
        <p:spPr>
          <a:xfrm>
            <a:off x="6678000" y="4221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08080"/>
                </a:solidFill>
                <a:latin typeface="Tahoma"/>
              </a:rPr>
              <a:t>Perceived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6681960" y="479736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08080"/>
                </a:solidFill>
                <a:latin typeface="Tahoma"/>
              </a:rPr>
              <a:t>Overall 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9"/>
          <p:cNvSpPr/>
          <p:nvPr/>
        </p:nvSpPr>
        <p:spPr>
          <a:xfrm>
            <a:off x="6695280" y="53737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08080"/>
                </a:solidFill>
                <a:latin typeface="Tahoma"/>
              </a:rPr>
              <a:t>Task 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9:57:33Z</dcterms:created>
  <dc:creator/>
  <dc:description/>
  <dc:language>en-US</dc:language>
  <cp:lastModifiedBy/>
  <dcterms:modified xsi:type="dcterms:W3CDTF">2008-05-29T10:01:22Z</dcterms:modified>
  <cp:revision>1</cp:revision>
  <dc:subject/>
  <dc:title>IUXE Final presentation</dc:title>
</cp:coreProperties>
</file>