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1EB6-7920-4578-BC73-7D43B3FC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FD25D-E428-4A6D-A881-616DBC79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41FBE-64ED-4FBF-B93E-F60AD6C8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0F49-76F7-4D45-A9A9-E11CD38E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ADCA-C73F-4A30-A2C6-95CAB24F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DA62-FFC9-4849-8B71-F9109836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F640-3709-45C0-A77B-7C234110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12EF-D3DF-431F-84C6-D1793F58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F06D-9B13-4F89-8E16-B3AD8D85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91A2-845F-4D9F-AA58-C548007B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3628-B600-4C42-B76D-33B4EE6C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80A24-F0C9-459F-BD59-1D8DE5DB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F48F-8769-470D-A852-052FFC08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A24C-7C08-47BA-A01B-19CE8311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C017-3FE3-4F3B-A44A-1D04FEED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20BA-4F53-4252-BF9C-A5E9094A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233A-FD69-47AD-B491-E65625E0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03BAF-9098-4230-86C2-8AEBD290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B6D1-4026-4DB8-AB41-5A40AA59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30FAE-8B79-4185-BE1B-B078B138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CF0A-A87B-4291-958D-2DFC17B2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FC933-0BDA-48AD-9E74-CF026BFC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64D24-8CD1-480A-A338-CB0D86DD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CA05E-17C0-4979-8F98-90DA1EE9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D768-45E5-4162-B405-CBD59D8F2FD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BE76-FE8E-4A01-B112-568238D0906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IN4145 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Educational Softwar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 de Robot Demonstr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529240" y="5157720"/>
            <a:ext cx="278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Group 5 collabo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y, Kenneth en Ste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250920" y="3481560"/>
            <a:ext cx="4249800" cy="31874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518" name=""/>
          <p:cNvSpPr/>
          <p:nvPr/>
        </p:nvSpPr>
        <p:spPr>
          <a:xfrm>
            <a:off x="4577040" y="3792600"/>
            <a:ext cx="456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Educational software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robotic inter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l project goal (summa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 thus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s fa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ject go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 children the fundamentals on programming in a playful ma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ntion enabl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ag drop 4 phase program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go Robot, controlled via Bluetoo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sy to learn, even for senior teac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rful and easy to use user interface designed for childr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ts of helpful interaction to learn how to use the program and thus learn the basics on program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teacher involvement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gress thus fa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of 4 actions available, other 2 realised within 2 wee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ensors available100% availability of user contr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% availiability of helpful user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own blokcode compiler 100% working, 30% of compiler error messages are user friend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blems fac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muncation: application --&gt; bluetooth --&gt; rob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 use Lego open source SDK based on c# library  between application and bluetoo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sensors in run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 use thread for every sensor and one thread for main application. Main application has thread master contro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speech and image processing on Robot, because this is not yet implemented in c# libra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 Write own extention on this c# library by using the Lego open source SDK Documention on direct bluetooth commands to robo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igning our own blokcode compi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 create a finite automata where all possible blokcode is translated to input for c# librar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84360" y="234936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ject evalu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weeks were spend on extensive research on communication with Lego rob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l focus was very much on user interface design, rather than technical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pplication desig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201080" cy="532944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135840" y="6524640"/>
            <a:ext cx="38368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nks for your atten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7:06:17Z</dcterms:created>
  <dc:creator>ing. Steven Bos</dc:creator>
  <dc:description/>
  <dc:language>en-US</dc:language>
  <cp:lastModifiedBy>ing. Bos</cp:lastModifiedBy>
  <dcterms:modified xsi:type="dcterms:W3CDTF">2007-05-29T12:39:53Z</dcterms:modified>
  <cp:revision>12</cp:revision>
  <dc:subject/>
  <dc:title>IN4145  Educational Softw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